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AC0-66FB-4E63-A9D9-000EEF02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C4B-C32A-47F4-8245-0B4D4345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464-3EC1-40EC-91EF-968C5C1B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8E3-71C3-4006-9711-17A449DE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13E-9A17-4D92-8AD5-61EFA915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FC7C-9DAF-47EF-A345-C2227B5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D22-2B46-4176-B5F6-828F953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2541-CD94-4C7F-8AB0-5B8B25B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5BF-C318-437E-BB45-9072151F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A1C-734E-46C9-B221-E303A8C7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13FD-9A9F-4EC7-87D0-9B0C9DC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0FC-D960-498D-85E5-443792D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9F5-53CC-47A2-96E8-6E745F94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7B2C-A4E9-4BAF-9B82-DCE15AAA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36F5-381B-43A7-932E-9FDB1848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8261-014D-4538-9EC6-DB4117E2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CDEE-9149-4B63-9D38-6883DBFB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C3F-8354-4F93-ACA2-D4A925C0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B84-F285-4216-B45A-BD9AEF57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0CE6-CAED-4E7B-952E-E0518861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B33-A117-4080-A5CF-253430E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9C6-5E6F-4C82-AB1E-71BB167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7E9-DEC9-477E-A193-2D26F9E4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A5A-79E0-4631-B847-66FBB1EA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455-8DA3-4622-B556-397450883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EB5-B7EF-476F-B021-197B01804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ubul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ECO-SCOLARI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iceul de Stiințe ale Natu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ctivități prop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Parcului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lantarea de puieți în gradina șco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albiei râului ce trece prin local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țiuni de colectare a hârt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nvățăm să reciclăm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38200" y="1869840"/>
            <a:ext cx="4191120" cy="4190400"/>
            <a:chOff x="2338200" y="1869840"/>
            <a:chExt cx="4191120" cy="4190400"/>
          </a:xfrm>
        </p:grpSpPr>
        <p:sp>
          <p:nvSpPr>
            <p:cNvPr id="104" name="_s7179"/>
            <p:cNvSpPr/>
            <p:nvPr/>
          </p:nvSpPr>
          <p:spPr>
            <a:xfrm>
              <a:off x="3008160" y="186984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008000"/>
                </a:gs>
              </a:gsLst>
              <a:lin ang="81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7180"/>
            <p:cNvSpPr/>
            <p:nvPr/>
          </p:nvSpPr>
          <p:spPr>
            <a:xfrm rot="5400000">
              <a:off x="3678120" y="253944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7184"/>
            <p:cNvSpPr/>
            <p:nvPr/>
          </p:nvSpPr>
          <p:spPr>
            <a:xfrm rot="10800000">
              <a:off x="3008160" y="320940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8000"/>
                </a:gs>
              </a:gsLst>
              <a:lin ang="189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82"/>
            <p:cNvSpPr/>
            <p:nvPr/>
          </p:nvSpPr>
          <p:spPr>
            <a:xfrm rot="16200000">
              <a:off x="2338200" y="253908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7177"/>
            <p:cNvSpPr/>
            <p:nvPr/>
          </p:nvSpPr>
          <p:spPr>
            <a:xfrm>
              <a:off x="5192640" y="21319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erci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7178"/>
            <p:cNvSpPr/>
            <p:nvPr/>
          </p:nvSpPr>
          <p:spPr>
            <a:xfrm>
              <a:off x="5194080" y="4722480"/>
              <a:ext cx="10749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sum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81"/>
            <p:cNvSpPr/>
            <p:nvPr/>
          </p:nvSpPr>
          <p:spPr>
            <a:xfrm>
              <a:off x="2600280" y="2134800"/>
              <a:ext cx="10746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Produc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7183"/>
            <p:cNvSpPr/>
            <p:nvPr/>
          </p:nvSpPr>
          <p:spPr>
            <a:xfrm>
              <a:off x="2603520" y="47257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Centru de recicla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a deșeuril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Protejați NATURA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1:07:08Z</dcterms:created>
  <dc:creator>AS</dc:creator>
  <dc:description/>
  <dc:language>en-US</dc:language>
  <cp:lastModifiedBy>AS</cp:lastModifiedBy>
  <dcterms:modified xsi:type="dcterms:W3CDTF">2010-01-08T19:21:12Z</dcterms:modified>
  <cp:revision>7</cp:revision>
  <dc:subject/>
  <dc:title>Clubul  ECO-SCOLARII</dc:title>
</cp:coreProperties>
</file>